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CAE-6025-4392-997F-0DB95D7A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6EC-0706-4F83-ACA9-AAEAD715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B4B-773A-414B-B765-01700F68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AEF-B07C-473A-AD07-D6C039FB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B800-C98F-48D1-A396-8F37D2B7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5D6-31C5-4B6F-81B7-F6976FF1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9E3-A171-4EE1-9961-FDE140EF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68D9-842A-44E4-AAE4-689FB2C8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237-100C-4CDE-9A6C-F8301F02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4E4-49C3-4283-B104-188EA219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0A5-F94B-4A61-BDD3-774B1BD9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F25-CA78-4AB2-A506-99D071F5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C5CA-2CCB-4756-B08E-ABE95B288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1/hi/education/3720040.s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4360" y="836640"/>
            <a:ext cx="7848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paration of the 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ednesday 25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4360" y="836640"/>
            <a:ext cx="7848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ental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ing e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hea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of arou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836640"/>
            <a:ext cx="78483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ing emo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you can manage your emotions, you can perform at your bes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effect does pressure/stress have on your perform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happens if you are very nervous before perform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of a sporting situation which was stressful for the perfor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4360" y="83664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5977080" cy="3378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558972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can we ensure we perform to the best of our abi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692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s of mental arou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836640"/>
            <a:ext cx="784836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al rehea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formers use mental imagery and mental rehearsal to ensure pea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ews.bbc.co.uk/1/hi/education/3720040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4360" y="836640"/>
            <a:ext cx="784836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eate a mind map detailing the aspects and types of fitness required in Hoc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2708280"/>
            <a:ext cx="2663640" cy="12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tness requirement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d-field player in hoc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4653000"/>
            <a:ext cx="1512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kill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32720" y="4724280"/>
            <a:ext cx="1512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1773360"/>
            <a:ext cx="1512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9280" y="4076640"/>
            <a:ext cx="2089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556000" y="4005360"/>
            <a:ext cx="1295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276640"/>
            <a:ext cx="1655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836640"/>
            <a:ext cx="7848360" cy="73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mework du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dnesday 1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tS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d Map – F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ysical, skill-relat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ntal fitne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all required for successful performance.  With reference to your chosen activity, describe why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e asp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es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s of fitn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836640"/>
            <a:ext cx="784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son ai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e uni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YPES of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836640"/>
            <a:ext cx="784836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paration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above statement with a partner.  Write down key words or phrases you associate with Preparation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have five minutes to complete thi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836640"/>
            <a:ext cx="7848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eparation of the b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focus =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can improved fitness help improve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4360" y="836640"/>
            <a:ext cx="784836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ypes of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three TYPES of fitness.  Within these types there are specific ASPECTS of fit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the three TYPES of fitness and defin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836640"/>
            <a:ext cx="7848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ypes of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 related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ntal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4360" y="836640"/>
            <a:ext cx="784836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hysical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the six aspects of physical fitness and give definitions for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Give a reason each of these aspects are important in hock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Circle the two aspects you think are most important in hockey.  Give reasons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4360" y="836640"/>
            <a:ext cx="78483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hysical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rdio respiratory end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 muscular end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xi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836640"/>
            <a:ext cx="784836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kill related fitn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gility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-ordinatio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c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vement an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0:48:31Z</dcterms:created>
  <dc:creator>hamiltonp</dc:creator>
  <dc:description/>
  <dc:language>en-US</dc:language>
  <cp:lastModifiedBy>hamiltonp</cp:lastModifiedBy>
  <dcterms:modified xsi:type="dcterms:W3CDTF">2010-08-25T09:36:46Z</dcterms:modified>
  <cp:revision>5</cp:revision>
  <dc:subject/>
  <dc:title>Slide 1</dc:title>
</cp:coreProperties>
</file>